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56E-C515-4A16-8086-EF5C7010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F98-5216-4EBD-95A7-E43911E1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E06-3BA0-4242-9E19-296E6614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1EA-ED01-4DDB-9D73-F483061D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93E-C57C-42A4-9ABF-8C6577F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6CB-9C93-4ED9-A555-E64BB2A6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888-65DD-4275-949B-E40F6D7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232-F5EB-4A07-A204-F32ED25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FD2-8C17-456A-A77D-5B23DF7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97F-C581-4408-994D-434FD95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EFA-8060-4D59-BA7A-57792A01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833-9811-450C-AA70-9AFAADF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1452-9B8D-4502-A2E5-BE87C492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handra.harvard.edu/photo/2007/a3627/a362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3627_4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efinition of planet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ner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son Pet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L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3"/>
          <p:cNvGraphicFramePr/>
          <p:nvPr/>
        </p:nvGraphicFramePr>
        <p:xfrm>
          <a:off x="0" y="0"/>
          <a:ext cx="861048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1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traight Connector 4"/>
          <p:cNvSpPr/>
          <p:nvPr/>
        </p:nvSpPr>
        <p:spPr>
          <a:xfrm>
            <a:off x="838080" y="5638680"/>
            <a:ext cx="7620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"/>
          <p:cNvGraphicFramePr/>
          <p:nvPr/>
        </p:nvGraphicFramePr>
        <p:xfrm>
          <a:off x="0" y="304920"/>
          <a:ext cx="9144000" cy="62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Straight Connector 4"/>
          <p:cNvSpPr/>
          <p:nvPr/>
        </p:nvSpPr>
        <p:spPr>
          <a:xfrm>
            <a:off x="685800" y="5638680"/>
            <a:ext cx="83059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3"/>
          <p:cNvGraphicFramePr/>
          <p:nvPr/>
        </p:nvGraphicFramePr>
        <p:xfrm>
          <a:off x="0" y="316080"/>
          <a:ext cx="9101160" cy="622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6080"/>
                    <a:ext cx="9101160" cy="62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Straight Connector 2"/>
          <p:cNvSpPr/>
          <p:nvPr/>
        </p:nvSpPr>
        <p:spPr>
          <a:xfrm>
            <a:off x="838080" y="5181480"/>
            <a:ext cx="80773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237960" y="457200"/>
          <a:ext cx="866808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960" y="457200"/>
                    <a:ext cx="866808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Straight Connector 4"/>
          <p:cNvSpPr/>
          <p:nvPr/>
        </p:nvSpPr>
        <p:spPr>
          <a:xfrm>
            <a:off x="1447920" y="5410080"/>
            <a:ext cx="73152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4"/>
          <p:cNvGraphicFramePr/>
          <p:nvPr/>
        </p:nvGraphicFramePr>
        <p:xfrm>
          <a:off x="27612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4"/>
          <p:cNvGraphicFramePr/>
          <p:nvPr/>
        </p:nvGraphicFramePr>
        <p:xfrm>
          <a:off x="22860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Straight Connector 2"/>
          <p:cNvSpPr/>
          <p:nvPr/>
        </p:nvSpPr>
        <p:spPr>
          <a:xfrm>
            <a:off x="1600200" y="190512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4"/>
          <p:cNvGraphicFramePr/>
          <p:nvPr/>
        </p:nvGraphicFramePr>
        <p:xfrm>
          <a:off x="228600" y="609480"/>
          <a:ext cx="8667720" cy="60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480"/>
                    <a:ext cx="86677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Straight Connector 2"/>
          <p:cNvSpPr/>
          <p:nvPr/>
        </p:nvSpPr>
        <p:spPr>
          <a:xfrm>
            <a:off x="1600200" y="198108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star_clu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304920" y="3657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In our opinion a planet is a celestial body that has to have an atmosphere and has to orbit the Sun or other giant stars.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Has to have a mass no smaller than that of  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Dwarf planets have to have a mass of 0.0005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orbital period of the planet around the sun or giant star has to be 10.00000 for close planets and 70.00000 for far planets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planet  has to be  a certain distance away from the sun on close planets 8.0000 and far planets 50.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number of moons has to be 1 or greater and have to orbit around the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Must have a diameter of 0.5, earth diameter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ur definition, the planets that made the cut are, earth, mars, Saturn, Jupiter, Uranus venues, Neptune and Pl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warf planets that made the cut are, Makemake, Haumea, E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planets that didn’t classify as a planet are Ceres a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ank you very much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=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652320" y="1068480"/>
          <a:ext cx="7785360" cy="531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" y="1068480"/>
                    <a:ext cx="7785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Straight Connector 3"/>
          <p:cNvSpPr/>
          <p:nvPr/>
        </p:nvSpPr>
        <p:spPr>
          <a:xfrm>
            <a:off x="1752480" y="3657600"/>
            <a:ext cx="5943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2"/>
          <p:cNvGraphicFramePr/>
          <p:nvPr/>
        </p:nvGraphicFramePr>
        <p:xfrm>
          <a:off x="201600" y="596880"/>
          <a:ext cx="8942400" cy="623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596880"/>
                    <a:ext cx="894240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Straight Connector 3"/>
          <p:cNvSpPr/>
          <p:nvPr/>
        </p:nvSpPr>
        <p:spPr>
          <a:xfrm>
            <a:off x="1143000" y="5562720"/>
            <a:ext cx="7086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ultiply 21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7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0" y="0"/>
          <a:ext cx="9144000" cy="682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21:40Z</dcterms:created>
  <dc:creator>Tech</dc:creator>
  <dc:description/>
  <dc:language>en-US</dc:language>
  <cp:lastModifiedBy>Amphitheater Public Schools</cp:lastModifiedBy>
  <dcterms:modified xsi:type="dcterms:W3CDTF">2011-02-17T19:33:26Z</dcterms:modified>
  <cp:revision>45</cp:revision>
  <dc:subject/>
  <dc:title>Definition of Planet</dc:title>
</cp:coreProperties>
</file>